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.png" ContentType="image/png"/>
  <Override PartName="/ppt/media/image12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5.png" ContentType="image/png"/>
  <Override PartName="/ppt/media/image37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A7869-A6B4-43CA-96F4-1A2F4F917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CD6BE-1231-4733-A511-747C4D7F6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EF5-AB25-4899-8F91-80DD6F47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DF7-B265-428E-B9C2-98741652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B1F-8A18-4DF7-98CD-F951A6C6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942-E4DF-4B2D-B4B1-75FFD0DC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7B2-3DDB-4952-9594-3974FEB1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6FA-0E8A-4AA6-AAB9-891505EC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1BB-AED6-4AD2-B128-C174E347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A7D-FF96-4E6B-AF21-66EEB5A9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35D8-B5EA-4BB8-865A-1C7F8F01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E0A-973C-4B24-B4A4-119B1EF0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6A4-5F0C-444D-A630-69989C45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CA1-2E1E-4F07-AF4A-E340F79F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7646-6880-4166-8EF9-91856BB73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Equation Mo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ith F. Widam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Qu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0DAC-1974-4E4A-B3D8-38677D1A0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(or measured) variables, with scores you can “get your hands 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tructure to be 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bserved (i.e., unmeasured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d by covariances among manifes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of formally stating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A9B8-F15C-4A1F-9283-5BB4F4974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s pretty well, 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actor loading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fit is not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I &lt; 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I &lt; 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EA &gt; .05, lower limit does not include .05, so probability of close fit suggests rejecting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indices – two larg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of sccaps on Spati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ed uniqueness between addition and count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D437-1094-4481-9F9E-63FD7BAB6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add 1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2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sccaps                   # added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2 = cfa(hs.model2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2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2 = modificationIndices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2, mi &gt;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6922-C0CF-46CA-B5D0-8CC8B3CC1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BEA7-C29E-4B10-ABF7-7C2150552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3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.042, .08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4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08    0.7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85    0.065    5.918    0.000    2.046    0.4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1.005    0.138    7.291    0.000    5.333    0.5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7    0.8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7    0.087   17.016    0.000    4.411    0.8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2    0.130   16.685    0.000    6.414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5.319    0.6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50    0.161    6.540    0.000   16.083    0.7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057    0.175    6.037    0.000   16.195    0.4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.623    0.489    5.367    0.000   13.921    0.3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127    1.294    5.506    0.000    0.453    0.4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24.463    7.552    3.239    0.001    0.301    0.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 9.377    3.505    2.675    0.007    0.206    0.2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82A9-E1C4-4812-B3F1-149264613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2 = modificationIndices(fi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2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mi 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7  spatial =~ sentcomp 6.079  -0.127  -0.673   -0.131   -0.1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spatial =~ addition 6.030  -0.923  -4.900   -0.196   -0.1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countdot 6.030   0.969   5.144    0.254    0.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1   verbal =~  visperc 8.438   0.571   1.695    0.242    0.2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verbal =~ lozenges 8.167  -0.629  -1.865   -0.207   -0.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1    cubes ~~ lozenges 6.395   5.742   5.742    0.135    0.1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5    cubes ~~ addition 7.060 -14.481 -14.481   -0.123   -0.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 lozenges ~~ sentcomp 8.640  -4.318  -4.318   -0.093   -0.0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5 paracomp ~~ wordmean 5.249  -4.565  -4.565   -0.171   -0.1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6 paracomp ~~ addition 7.835   7.608   7.608    0.087    0.0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B42B-8856-42B7-B406-9EA9E7022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airly good fit, but could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has generally good, rather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maining modification indices were &g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ru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ed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for ‘cfa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for ‘lavaan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 are same as Mod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1337-CED3-4BA3-8B94-F8C64A479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Model 2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1867-9214-4B62-9E72-0457BA947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750960" y="2057400"/>
            <a:ext cx="76420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6 (very small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 attack survivors (all 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c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EAB1-E986-4AB6-9A87-2EC8EEECE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Hypothes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: Single-Process Model: Are recall and recognition memory served by a single underlying process of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: Dual-Process Recall: Is recall supported by two processes: Controlled Search (which supports fluency) and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: Dual-Process Recognition: Is recognition supported by two processes: Recollection and Familiarity, the former of which supports rec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: Is a hybrid three-process model an improvement on Model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6F90-AE2B-40F8-A780-4CE23EE2D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1 – single memo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D05D-5D5B-49D2-B642-4EC2108E4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4" descr=""/>
          <p:cNvPicPr/>
          <p:nvPr/>
        </p:nvPicPr>
        <p:blipFill>
          <a:blip r:embed="rId1"/>
          <a:stretch/>
        </p:blipFill>
        <p:spPr>
          <a:xfrm>
            <a:off x="838080" y="174780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oc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 (or bi-) directional (reciprocal) relation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-) directional (non-reciprocal) relation between two variables, such as IV and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an IV on a DV through one or more intervening (or mediating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tal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direct and indirect effects of an IV on a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0E22-3EFA-4F27-97AE-6A2B561DB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2 – dual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7C30-C1DD-426B-A7FB-AD98FBFBD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855720" y="1763640"/>
            <a:ext cx="743256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3 – dual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7716-2E02-4DC8-85DF-C6BDC126C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"/>
          <p:cNvPicPr/>
          <p:nvPr/>
        </p:nvPicPr>
        <p:blipFill>
          <a:blip r:embed="rId1"/>
          <a:stretch/>
        </p:blipFill>
        <p:spPr>
          <a:xfrm>
            <a:off x="901800" y="1660680"/>
            <a:ext cx="7340400" cy="50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4 – hybrid three-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7998-24A4-4DB6-8C77-F9A47DCEA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870120" y="1650960"/>
            <a:ext cx="740376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sample size lead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hit, low power to “tell us we are wro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 parallel test constraint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lo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pay attention to whether model modifications lead to significa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8ED7-E4E4-465C-A417-FB3388688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1.gen = '# loadings of MVs on LVs in Lambda (L)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NA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NA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5A2C-DAB5-411C-B6C8-C21E78FEC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.706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*age ; declr ~~ 0*coma ; declr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9BD0-E4BE-4DDD-86D0-A0AA8C466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532F-51B2-44D4-B72B-FFF63BDEA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264    0.364    8.970    0.000    3.260    0.8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264    0.364    8.970    0.000    3.260    0.9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444    0.322    7.587    0.000    2.442    0.7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444    0.322    7.587    0.000    2.442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172    0.354    3.315    0.001    1.172    0.3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172    0.354    3.315    0.001    1.172    0.3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7968-28B2-48D8-9ED6-6ECC0F8F3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 0.192    0.141    1.369    0.171    0.192    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397    0.135   -2.945    0.003   -0.398   -0.3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45    0.131   -3.405    0.001   -0.445   -0.4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          -0.343    0.105   -3.250    0.001   -0.416   -0.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F423-AB8C-4C75-BF23-43907A097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rhs     mi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9    disru =~ comadur  6.233  8.817   8.817    0.522    0.5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4  comadur ~~  recal2  5.001 -9.559  -9.559   -0.158   -0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recal1 ~~  recal2 10.221  3.076   3.076    0.227    0.2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8   recal1 ~~  recog2  5.114 -1.337  -1.337   -0.112   -0.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9   recal2 ~~  recog1  5.620 -1.567  -1.567   -0.130   -0.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g1 ~~  recog2 20.70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.127   3.127    0.293    0.2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881C-F7F9-4062-9BCD-1942C6D0F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B0A3-1096-4660-AD9F-AC6348251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1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2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tart(-0.2)*L09*recal1 + start(-0.2)*L09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7DE9-2B8E-41DA-940C-DC2698DBF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2ADC-A755-4FEE-8F4F-F8A6721BD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3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famil  =~ start(1.70)*L09*recog1 + start(1.70)*L09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8619-E9CC-4C25-B1B2-E813F65FA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                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          recol ~~ 0.689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1*famil              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~ 0*age ; recol ~~ 0*coma  ; recol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age ; famil ~~ 0*coma  ; famil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recol ; disru ~~ 0*fami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8CC0-A45E-418A-96DF-FA6462A4D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8C2D-BA2C-4152-90D7-6D710C6A3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9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331    0.360    9.253    0.000    3.331    0.8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331    0.360    9.253    0.000    3.331    0.9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300    0.359    6.413    0.000    2.300    0.6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300    0.359    6.413    0.000    2.300    0.7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481    0.246    6.017    0.000    1.481    0.3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481    0.246    6.017    0.000    1.481    0.4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1C04-F839-48E8-BDDB-6868A1605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192    0.141   -1.369    0.171   -0.192   -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406    0.133   -3.054    0.002   -0.406   -0.4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63    0.129   -3.584    0.000   -0.463   -0.4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            0.346    0.102    3.385    0.001    0.425    0.4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– no modification indices &gt; 5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no need to add additional parameters t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EB71-D42F-4AF7-9A3F-2FFB97D1C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relies on Re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relies on Recollection and Famili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llection declines as function of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arity unaffected by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of LVs of Recollection and Familiarity could only be done with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A0FB-0AFD-47DF-8E68-C6D6FDC14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general overview of SEM approach to aligning conjectures with statist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intro to evaluating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fit: Overall and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indices: Statistical and prac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ation fact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 you can see glimmerings of broad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6865-2B3D-47E1-8C76-0230647C6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more to cover (in the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itudinal mo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lagged latent variab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la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profi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transit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is bright [gotta wear shad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9035-FFCD-4497-9459-74EB664CE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EM, we often deal with several variables, complex relations, and latent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elp explain, describe, and understand SEMs, we use path diagrams to visually represent 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EM programs use Path Diagrams for programming (e.g., AMOS, M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path dia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be useful for very large models (with lots of variables and lots of rel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algebra may be more helpful with larg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0B7E-72D2-442D-A9BE-381A7C6BE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literature, you will see researchers / programs draw diagrams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use RAM specification (McArdle &amp; McDonald, 19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re complete, as every estimated parameter has a place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path tracing rules to generate model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variations of path diagrams will be described today, but are not likely to appear often (because they are incompl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0966-1B55-4180-847C-AE1FC87AF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s of Path Diagrams: A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96840" y="1441440"/>
            <a:ext cx="768600" cy="85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22280" y="2733840"/>
            <a:ext cx="244440" cy="268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027080" y="2523960"/>
            <a:ext cx="701640" cy="85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4"/>
          <a:stretch/>
        </p:blipFill>
        <p:spPr>
          <a:xfrm>
            <a:off x="422280" y="3886200"/>
            <a:ext cx="3301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5"/>
          <a:stretch/>
        </p:blipFill>
        <p:spPr>
          <a:xfrm>
            <a:off x="896760" y="3807000"/>
            <a:ext cx="1160640" cy="31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6"/>
          <a:stretch/>
        </p:blipFill>
        <p:spPr>
          <a:xfrm>
            <a:off x="708120" y="4757760"/>
            <a:ext cx="1146240" cy="15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7"/>
          <a:stretch/>
        </p:blipFill>
        <p:spPr>
          <a:xfrm>
            <a:off x="857160" y="5408640"/>
            <a:ext cx="712800" cy="873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1960" y="1599840"/>
            <a:ext cx="6476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s (or rectangles) = 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s (or ellipses) = 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headed arrows = variances 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headed arrows = reg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ngle = unit constant (for modeling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8999-D4B2-43E4-B78D-777CCAEDA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 Basic 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Univariat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Univariate regression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Med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omplex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Confirmatory fact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Latent variable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8408-ED63-4A1B-A494-8B24BC703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D784-9A90-4E02-90F7-70FB120C6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3623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95288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5"/>
          <p:cNvCxnSpPr>
            <a:stCxn id="123" idx="3"/>
            <a:endCxn id="124" idx="1"/>
          </p:cNvCxnSpPr>
          <p:nvPr/>
        </p:nvCxnSpPr>
        <p:spPr>
          <a:xfrm>
            <a:off x="3504960" y="28573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6" name="AutoShape 8"/>
          <p:cNvCxnSpPr>
            <a:endCxn id="124" idx="3"/>
          </p:cNvCxnSpPr>
          <p:nvPr/>
        </p:nvCxnSpPr>
        <p:spPr>
          <a:xfrm flipH="1">
            <a:off x="6095520" y="28573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02E0-C8A0-4FF7-B0F2-7FF3F4046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7160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6252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5"/>
          <p:cNvCxnSpPr>
            <a:stCxn id="131" idx="3"/>
            <a:endCxn id="132" idx="1"/>
          </p:cNvCxnSpPr>
          <p:nvPr/>
        </p:nvCxnSpPr>
        <p:spPr>
          <a:xfrm>
            <a:off x="2514600" y="268236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4" name="Freeform 6"/>
          <p:cNvSpPr/>
          <p:nvPr/>
        </p:nvSpPr>
        <p:spPr>
          <a:xfrm rot="16200000">
            <a:off x="799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6705720" y="2111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8"/>
          <p:cNvCxnSpPr>
            <a:stCxn id="135" idx="2"/>
            <a:endCxn id="132" idx="3"/>
          </p:cNvCxnSpPr>
          <p:nvPr/>
        </p:nvCxnSpPr>
        <p:spPr>
          <a:xfrm flipH="1">
            <a:off x="5104800" y="268236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7" name="Freeform 9"/>
          <p:cNvSpPr/>
          <p:nvPr/>
        </p:nvSpPr>
        <p:spPr>
          <a:xfrm flipH="1" rot="5400000">
            <a:off x="7657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66688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25780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>
            <a:stCxn id="138" idx="3"/>
            <a:endCxn id="139" idx="1"/>
          </p:cNvCxnSpPr>
          <p:nvPr/>
        </p:nvCxnSpPr>
        <p:spPr>
          <a:xfrm>
            <a:off x="3809880" y="5143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41" name="Freeform 13"/>
          <p:cNvSpPr/>
          <p:nvPr/>
        </p:nvSpPr>
        <p:spPr>
          <a:xfrm rot="16200000">
            <a:off x="209520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 flipH="1" rot="5400000">
            <a:off x="628632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Univariate regression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Model for covariances and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6C13-76E8-474C-BB1A-96299D40F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625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"/>
          <p:cNvCxnSpPr>
            <a:stCxn id="147" idx="3"/>
            <a:endCxn id="148" idx="1"/>
          </p:cNvCxnSpPr>
          <p:nvPr/>
        </p:nvCxnSpPr>
        <p:spPr>
          <a:xfrm>
            <a:off x="2514600" y="2857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0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6705720" y="2286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8"/>
          <p:cNvCxnSpPr>
            <a:stCxn id="151" idx="2"/>
            <a:endCxn id="148" idx="3"/>
          </p:cNvCxnSpPr>
          <p:nvPr/>
        </p:nvCxnSpPr>
        <p:spPr>
          <a:xfrm flipH="1">
            <a:off x="5104800" y="285732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3" name="Freeform 9"/>
          <p:cNvSpPr/>
          <p:nvPr/>
        </p:nvSpPr>
        <p:spPr>
          <a:xfrm flipH="1" rot="5400000">
            <a:off x="7657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1371600" y="48769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17"/>
          <p:cNvCxnSpPr>
            <a:stCxn id="154" idx="5"/>
          </p:cNvCxnSpPr>
          <p:nvPr/>
        </p:nvCxnSpPr>
        <p:spPr>
          <a:xfrm flipV="1">
            <a:off x="2228760" y="3428280"/>
            <a:ext cx="173448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56" name="AutoShape 18"/>
          <p:cNvCxnSpPr>
            <a:stCxn id="154" idx="0"/>
            <a:endCxn id="147" idx="2"/>
          </p:cNvCxnSpPr>
          <p:nvPr/>
        </p:nvCxnSpPr>
        <p:spPr>
          <a:xfrm flipV="1">
            <a:off x="1942920" y="3428640"/>
            <a:ext cx="10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7" name="Freeform 19"/>
          <p:cNvSpPr/>
          <p:nvPr/>
        </p:nvSpPr>
        <p:spPr>
          <a:xfrm rot="10800000">
            <a:off x="1599840" y="60199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EM &amp; why should we be interes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is popular and has practical value because most or all prior parametric models can be clar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VA, linear regression, factor analysis, biometric models, etc. – all special cases of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tate-of-the-art ideas can be tested only (or certainly most easily) using S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s among factors “free of measurement 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of latent con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incomplete data, circumventing or surmounting bi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provides a framework for more complex (i.e., more realistic) representations of huma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BA48-0837-4962-8D67-19349933A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Multipl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61CE-2DFB-4FB4-9CE8-860F60D0E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724280" y="3505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5"/>
          <p:cNvCxnSpPr>
            <a:stCxn id="162" idx="3"/>
          </p:cNvCxnSpPr>
          <p:nvPr/>
        </p:nvCxnSpPr>
        <p:spPr>
          <a:xfrm>
            <a:off x="2514600" y="2857320"/>
            <a:ext cx="2210400" cy="95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5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629400" y="35053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AutoShape 8"/>
          <p:cNvCxnSpPr>
            <a:stCxn id="166" idx="2"/>
            <a:endCxn id="163" idx="3"/>
          </p:cNvCxnSpPr>
          <p:nvPr/>
        </p:nvCxnSpPr>
        <p:spPr>
          <a:xfrm flipH="1">
            <a:off x="5866560" y="407628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8" name="Freeform 9"/>
          <p:cNvSpPr/>
          <p:nvPr/>
        </p:nvSpPr>
        <p:spPr>
          <a:xfrm flipH="1" rot="5400000">
            <a:off x="7581600" y="3847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4648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7"/>
          <p:cNvSpPr/>
          <p:nvPr/>
        </p:nvSpPr>
        <p:spPr>
          <a:xfrm rot="16200000">
            <a:off x="799920" y="4990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18"/>
          <p:cNvCxnSpPr>
            <a:stCxn id="169" idx="3"/>
          </p:cNvCxnSpPr>
          <p:nvPr/>
        </p:nvCxnSpPr>
        <p:spPr>
          <a:xfrm flipV="1">
            <a:off x="2514600" y="4343040"/>
            <a:ext cx="22104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72" name="AutoShape 19"/>
          <p:cNvCxnSpPr>
            <a:stCxn id="169" idx="0"/>
            <a:endCxn id="162" idx="2"/>
          </p:cNvCxnSpPr>
          <p:nvPr/>
        </p:nvCxnSpPr>
        <p:spPr>
          <a:xfrm flipV="1">
            <a:off x="1942920" y="3428280"/>
            <a:ext cx="10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D505-66FD-4D6B-87E3-C78F40655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3665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3412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5"/>
          <p:cNvCxnSpPr/>
          <p:nvPr/>
        </p:nvCxnSpPr>
        <p:spPr>
          <a:xfrm>
            <a:off x="4419720" y="48085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0" name="Freeform 6"/>
          <p:cNvSpPr/>
          <p:nvPr/>
        </p:nvSpPr>
        <p:spPr>
          <a:xfrm>
            <a:off x="3505320" y="16081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934320" y="5265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8"/>
          <p:cNvCxnSpPr>
            <a:stCxn id="181" idx="2"/>
            <a:endCxn id="178" idx="3"/>
          </p:cNvCxnSpPr>
          <p:nvPr/>
        </p:nvCxnSpPr>
        <p:spPr>
          <a:xfrm flipH="1">
            <a:off x="6476760" y="5837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3" name="Freeform 9"/>
          <p:cNvSpPr/>
          <p:nvPr/>
        </p:nvSpPr>
        <p:spPr>
          <a:xfrm flipH="1" rot="5400000">
            <a:off x="78865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37160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1"/>
          <p:cNvSpPr/>
          <p:nvPr/>
        </p:nvSpPr>
        <p:spPr>
          <a:xfrm rot="16200000">
            <a:off x="7999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12"/>
          <p:cNvCxnSpPr>
            <a:stCxn id="184" idx="3"/>
            <a:endCxn id="178" idx="1"/>
          </p:cNvCxnSpPr>
          <p:nvPr/>
        </p:nvCxnSpPr>
        <p:spPr>
          <a:xfrm>
            <a:off x="2514600" y="583704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87" name="AutoShape 13"/>
          <p:cNvCxnSpPr/>
          <p:nvPr/>
        </p:nvCxnSpPr>
        <p:spPr>
          <a:xfrm flipV="1">
            <a:off x="2514240" y="480816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8" name="Oval 14"/>
          <p:cNvSpPr/>
          <p:nvPr/>
        </p:nvSpPr>
        <p:spPr>
          <a:xfrm>
            <a:off x="3276720" y="1989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15"/>
          <p:cNvCxnSpPr>
            <a:stCxn id="188" idx="4"/>
            <a:endCxn id="177" idx="0"/>
          </p:cNvCxnSpPr>
          <p:nvPr/>
        </p:nvCxnSpPr>
        <p:spPr>
          <a:xfrm>
            <a:off x="3847680" y="31320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0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5035-456A-442E-8677-016E6F756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000680" y="26748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5808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AutoShape 5"/>
          <p:cNvCxnSpPr/>
          <p:nvPr/>
        </p:nvCxnSpPr>
        <p:spPr>
          <a:xfrm>
            <a:off x="5143680" y="381780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9" name="Freeform 6"/>
          <p:cNvSpPr/>
          <p:nvPr/>
        </p:nvSpPr>
        <p:spPr>
          <a:xfrm>
            <a:off x="4229280" y="2217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9"/>
          <p:cNvSpPr/>
          <p:nvPr/>
        </p:nvSpPr>
        <p:spPr>
          <a:xfrm flipH="1" rot="5400000">
            <a:off x="708660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09556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"/>
          <p:cNvSpPr/>
          <p:nvPr/>
        </p:nvSpPr>
        <p:spPr>
          <a:xfrm rot="16200000">
            <a:off x="152388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12"/>
          <p:cNvCxnSpPr>
            <a:stCxn id="201" idx="3"/>
            <a:endCxn id="197" idx="1"/>
          </p:cNvCxnSpPr>
          <p:nvPr/>
        </p:nvCxnSpPr>
        <p:spPr>
          <a:xfrm>
            <a:off x="3238560" y="484632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04" name="AutoShape 13"/>
          <p:cNvCxnSpPr/>
          <p:nvPr/>
        </p:nvCxnSpPr>
        <p:spPr>
          <a:xfrm flipV="1">
            <a:off x="3238200" y="381744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Complex path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DE9E-BC31-40DB-A774-1BD6D57B6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84400" y="2735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99400" y="3421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"/>
          <p:cNvCxnSpPr>
            <a:stCxn id="210" idx="3"/>
            <a:endCxn id="213" idx="1"/>
          </p:cNvCxnSpPr>
          <p:nvPr/>
        </p:nvCxnSpPr>
        <p:spPr>
          <a:xfrm flipV="1">
            <a:off x="2327040" y="2544480"/>
            <a:ext cx="19818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14" name="Freeform 6"/>
          <p:cNvSpPr/>
          <p:nvPr/>
        </p:nvSpPr>
        <p:spPr>
          <a:xfrm rot="16200000">
            <a:off x="612720" y="3077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 flipH="1" rot="5400000">
            <a:off x="7927920" y="3763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184400" y="4564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 rot="16200000">
            <a:off x="612720" y="4906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2"/>
          <p:cNvCxnSpPr>
            <a:stCxn id="210" idx="3"/>
            <a:endCxn id="211" idx="1"/>
          </p:cNvCxnSpPr>
          <p:nvPr/>
        </p:nvCxnSpPr>
        <p:spPr>
          <a:xfrm>
            <a:off x="2327400" y="3306240"/>
            <a:ext cx="4572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9" name="AutoShape 13"/>
          <p:cNvCxnSpPr>
            <a:stCxn id="216" idx="0"/>
            <a:endCxn id="210" idx="2"/>
          </p:cNvCxnSpPr>
          <p:nvPr/>
        </p:nvCxnSpPr>
        <p:spPr>
          <a:xfrm flipV="1">
            <a:off x="1755360" y="38775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213" name="Rectangle 16"/>
          <p:cNvSpPr/>
          <p:nvPr/>
        </p:nvSpPr>
        <p:spPr>
          <a:xfrm>
            <a:off x="4308480" y="197316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4308480" y="50976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AutoShape 20"/>
          <p:cNvCxnSpPr>
            <a:stCxn id="213" idx="3"/>
            <a:endCxn id="211" idx="0"/>
          </p:cNvCxnSpPr>
          <p:nvPr/>
        </p:nvCxnSpPr>
        <p:spPr>
          <a:xfrm>
            <a:off x="5451120" y="2544840"/>
            <a:ext cx="20199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2" name="AutoShape 21"/>
          <p:cNvCxnSpPr>
            <a:stCxn id="213" idx="2"/>
            <a:endCxn id="220" idx="0"/>
          </p:cNvCxnSpPr>
          <p:nvPr/>
        </p:nvCxnSpPr>
        <p:spPr>
          <a:xfrm>
            <a:off x="4879440" y="3116160"/>
            <a:ext cx="1080" cy="198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3" name="AutoShape 22"/>
          <p:cNvCxnSpPr>
            <a:stCxn id="220" idx="3"/>
            <a:endCxn id="211" idx="2"/>
          </p:cNvCxnSpPr>
          <p:nvPr/>
        </p:nvCxnSpPr>
        <p:spPr>
          <a:xfrm flipV="1">
            <a:off x="5451120" y="4563360"/>
            <a:ext cx="201996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4" name="AutoShape 23"/>
          <p:cNvCxnSpPr>
            <a:stCxn id="216" idx="3"/>
          </p:cNvCxnSpPr>
          <p:nvPr/>
        </p:nvCxnSpPr>
        <p:spPr>
          <a:xfrm flipV="1">
            <a:off x="2327040" y="3115440"/>
            <a:ext cx="198180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5" name="AutoShape 24"/>
          <p:cNvCxnSpPr>
            <a:stCxn id="216" idx="3"/>
            <a:endCxn id="220" idx="1"/>
          </p:cNvCxnSpPr>
          <p:nvPr/>
        </p:nvCxnSpPr>
        <p:spPr>
          <a:xfrm>
            <a:off x="2327040" y="5135400"/>
            <a:ext cx="1981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26" name="Freeform 25"/>
          <p:cNvSpPr/>
          <p:nvPr/>
        </p:nvSpPr>
        <p:spPr>
          <a:xfrm>
            <a:off x="4537080" y="15159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6"/>
          <p:cNvSpPr/>
          <p:nvPr/>
        </p:nvSpPr>
        <p:spPr>
          <a:xfrm flipV="1">
            <a:off x="4537080" y="6240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onfirmatory facto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0447-D443-484D-84B1-864E47632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522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4"/>
          <p:cNvCxnSpPr>
            <a:stCxn id="237" idx="4"/>
            <a:endCxn id="238" idx="0"/>
          </p:cNvCxnSpPr>
          <p:nvPr/>
        </p:nvCxnSpPr>
        <p:spPr>
          <a:xfrm flipH="1">
            <a:off x="2018520" y="3200040"/>
            <a:ext cx="7628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38" name="Rectangle 7"/>
          <p:cNvSpPr/>
          <p:nvPr/>
        </p:nvSpPr>
        <p:spPr>
          <a:xfrm>
            <a:off x="14479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8"/>
          <p:cNvSpPr/>
          <p:nvPr/>
        </p:nvSpPr>
        <p:spPr>
          <a:xfrm rot="10800000">
            <a:off x="16761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AutoShape 9"/>
          <p:cNvCxnSpPr>
            <a:stCxn id="237" idx="4"/>
            <a:endCxn id="235" idx="0"/>
          </p:cNvCxnSpPr>
          <p:nvPr/>
        </p:nvCxnSpPr>
        <p:spPr>
          <a:xfrm flipH="1">
            <a:off x="723600" y="3200040"/>
            <a:ext cx="20577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41" name="Rectangle 11"/>
          <p:cNvSpPr/>
          <p:nvPr/>
        </p:nvSpPr>
        <p:spPr>
          <a:xfrm>
            <a:off x="27432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40384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14"/>
          <p:cNvCxnSpPr>
            <a:stCxn id="244" idx="4"/>
            <a:endCxn id="245" idx="0"/>
          </p:cNvCxnSpPr>
          <p:nvPr/>
        </p:nvCxnSpPr>
        <p:spPr>
          <a:xfrm>
            <a:off x="5905080" y="320004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6" name="AutoShape 15"/>
          <p:cNvCxnSpPr>
            <a:stCxn id="244" idx="4"/>
            <a:endCxn id="242" idx="0"/>
          </p:cNvCxnSpPr>
          <p:nvPr/>
        </p:nvCxnSpPr>
        <p:spPr>
          <a:xfrm flipH="1">
            <a:off x="4609800" y="3200040"/>
            <a:ext cx="12960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7" name="AutoShape 16"/>
          <p:cNvCxnSpPr>
            <a:stCxn id="244" idx="4"/>
            <a:endCxn id="248" idx="0"/>
          </p:cNvCxnSpPr>
          <p:nvPr/>
        </p:nvCxnSpPr>
        <p:spPr>
          <a:xfrm>
            <a:off x="5905080" y="3200040"/>
            <a:ext cx="12963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9" name="AutoShape 17"/>
          <p:cNvCxnSpPr>
            <a:stCxn id="237" idx="4"/>
            <a:endCxn id="242" idx="0"/>
          </p:cNvCxnSpPr>
          <p:nvPr/>
        </p:nvCxnSpPr>
        <p:spPr>
          <a:xfrm>
            <a:off x="2781360" y="3200040"/>
            <a:ext cx="182952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50" name="AutoShape 18"/>
          <p:cNvCxnSpPr>
            <a:stCxn id="237" idx="4"/>
            <a:endCxn id="241" idx="0"/>
          </p:cNvCxnSpPr>
          <p:nvPr/>
        </p:nvCxnSpPr>
        <p:spPr>
          <a:xfrm>
            <a:off x="2781360" y="3200040"/>
            <a:ext cx="5342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1" name="Freeform 19"/>
          <p:cNvSpPr/>
          <p:nvPr/>
        </p:nvSpPr>
        <p:spPr>
          <a:xfrm>
            <a:off x="556272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0"/>
          <p:cNvSpPr/>
          <p:nvPr/>
        </p:nvSpPr>
        <p:spPr>
          <a:xfrm flipV="1">
            <a:off x="42670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1"/>
          <p:cNvSpPr/>
          <p:nvPr/>
        </p:nvSpPr>
        <p:spPr>
          <a:xfrm rot="10800000">
            <a:off x="38052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53341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3"/>
          <p:cNvSpPr/>
          <p:nvPr/>
        </p:nvSpPr>
        <p:spPr>
          <a:xfrm rot="10800000">
            <a:off x="55623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66294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79246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28"/>
          <p:cNvCxnSpPr>
            <a:stCxn id="244" idx="4"/>
            <a:endCxn id="255" idx="0"/>
          </p:cNvCxnSpPr>
          <p:nvPr/>
        </p:nvCxnSpPr>
        <p:spPr>
          <a:xfrm>
            <a:off x="5905080" y="3200040"/>
            <a:ext cx="2591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7" name="Freeform 29"/>
          <p:cNvSpPr/>
          <p:nvPr/>
        </p:nvSpPr>
        <p:spPr>
          <a:xfrm flipV="1">
            <a:off x="81532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0"/>
          <p:cNvSpPr/>
          <p:nvPr/>
        </p:nvSpPr>
        <p:spPr>
          <a:xfrm rot="10800000">
            <a:off x="68576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1"/>
          <p:cNvSpPr/>
          <p:nvPr/>
        </p:nvSpPr>
        <p:spPr>
          <a:xfrm rot="10800000">
            <a:off x="29714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220968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3"/>
          <p:cNvSpPr/>
          <p:nvPr/>
        </p:nvSpPr>
        <p:spPr>
          <a:xfrm>
            <a:off x="533412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34"/>
          <p:cNvCxnSpPr>
            <a:stCxn id="237" idx="7"/>
            <a:endCxn id="244" idx="1"/>
          </p:cNvCxnSpPr>
          <p:nvPr/>
        </p:nvCxnSpPr>
        <p:spPr>
          <a:xfrm flipH="1" rot="16200000">
            <a:off x="4342680" y="1067040"/>
            <a:ext cx="2160" cy="2315520"/>
          </a:xfrm>
          <a:prstGeom prst="curvedConnector5">
            <a:avLst>
              <a:gd name="adj1" fmla="val -24900000"/>
              <a:gd name="adj2" fmla="val 49992"/>
              <a:gd name="adj3" fmla="val -249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1" name="Freeform 35"/>
          <p:cNvSpPr/>
          <p:nvPr/>
        </p:nvSpPr>
        <p:spPr>
          <a:xfrm>
            <a:off x="243828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1430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AutoShape 3"/>
          <p:cNvCxnSpPr>
            <a:stCxn id="264" idx="4"/>
            <a:endCxn id="265" idx="0"/>
          </p:cNvCxnSpPr>
          <p:nvPr/>
        </p:nvCxnSpPr>
        <p:spPr>
          <a:xfrm>
            <a:off x="2323800" y="476244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5" name="Rectangle 4"/>
          <p:cNvSpPr/>
          <p:nvPr/>
        </p:nvSpPr>
        <p:spPr>
          <a:xfrm>
            <a:off x="24382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5"/>
          <p:cNvSpPr/>
          <p:nvPr/>
        </p:nvSpPr>
        <p:spPr>
          <a:xfrm rot="10800000">
            <a:off x="26665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6"/>
          <p:cNvCxnSpPr>
            <a:stCxn id="264" idx="4"/>
            <a:endCxn id="262" idx="0"/>
          </p:cNvCxnSpPr>
          <p:nvPr/>
        </p:nvCxnSpPr>
        <p:spPr>
          <a:xfrm flipH="1">
            <a:off x="1713960" y="476244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8" name="Rectangle 7"/>
          <p:cNvSpPr/>
          <p:nvPr/>
        </p:nvSpPr>
        <p:spPr>
          <a:xfrm>
            <a:off x="480060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9588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10"/>
          <p:cNvCxnSpPr>
            <a:stCxn id="271" idx="4"/>
            <a:endCxn id="272" idx="0"/>
          </p:cNvCxnSpPr>
          <p:nvPr/>
        </p:nvCxnSpPr>
        <p:spPr>
          <a:xfrm flipH="1">
            <a:off x="582912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3" name="AutoShape 12"/>
          <p:cNvCxnSpPr>
            <a:stCxn id="271" idx="4"/>
            <a:endCxn id="274" idx="0"/>
          </p:cNvCxnSpPr>
          <p:nvPr/>
        </p:nvCxnSpPr>
        <p:spPr>
          <a:xfrm>
            <a:off x="7124400" y="47624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5" name="AutoShape 13"/>
          <p:cNvCxnSpPr>
            <a:stCxn id="276" idx="0"/>
            <a:endCxn id="269" idx="2"/>
          </p:cNvCxnSpPr>
          <p:nvPr/>
        </p:nvCxnSpPr>
        <p:spPr>
          <a:xfrm flipV="1">
            <a:off x="6057720" y="167616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7" name="AutoShape 14"/>
          <p:cNvCxnSpPr>
            <a:stCxn id="276" idx="0"/>
            <a:endCxn id="268" idx="2"/>
          </p:cNvCxnSpPr>
          <p:nvPr/>
        </p:nvCxnSpPr>
        <p:spPr>
          <a:xfrm flipH="1" flipV="1">
            <a:off x="5371560" y="167616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78" name="Freeform 15"/>
          <p:cNvSpPr/>
          <p:nvPr/>
        </p:nvSpPr>
        <p:spPr>
          <a:xfrm>
            <a:off x="67816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6"/>
          <p:cNvSpPr/>
          <p:nvPr/>
        </p:nvSpPr>
        <p:spPr>
          <a:xfrm>
            <a:off x="632448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7"/>
          <p:cNvSpPr/>
          <p:nvPr/>
        </p:nvSpPr>
        <p:spPr>
          <a:xfrm rot="10800000">
            <a:off x="13712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52578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9"/>
          <p:cNvSpPr/>
          <p:nvPr/>
        </p:nvSpPr>
        <p:spPr>
          <a:xfrm rot="10800000">
            <a:off x="54860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65530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784872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AutoShape 22"/>
          <p:cNvCxnSpPr>
            <a:stCxn id="271" idx="4"/>
            <a:endCxn id="282" idx="0"/>
          </p:cNvCxnSpPr>
          <p:nvPr/>
        </p:nvCxnSpPr>
        <p:spPr>
          <a:xfrm>
            <a:off x="712476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84" name="Freeform 23"/>
          <p:cNvSpPr/>
          <p:nvPr/>
        </p:nvSpPr>
        <p:spPr>
          <a:xfrm flipV="1">
            <a:off x="8077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"/>
          <p:cNvSpPr/>
          <p:nvPr/>
        </p:nvSpPr>
        <p:spPr>
          <a:xfrm rot="10800000">
            <a:off x="6781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5"/>
          <p:cNvSpPr/>
          <p:nvPr/>
        </p:nvSpPr>
        <p:spPr>
          <a:xfrm flipV="1" rot="10800000">
            <a:off x="502884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6"/>
          <p:cNvSpPr/>
          <p:nvPr/>
        </p:nvSpPr>
        <p:spPr>
          <a:xfrm>
            <a:off x="17524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7"/>
          <p:cNvSpPr/>
          <p:nvPr/>
        </p:nvSpPr>
        <p:spPr>
          <a:xfrm>
            <a:off x="65530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9"/>
          <p:cNvSpPr/>
          <p:nvPr/>
        </p:nvSpPr>
        <p:spPr>
          <a:xfrm>
            <a:off x="19810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1"/>
          <p:cNvSpPr/>
          <p:nvPr/>
        </p:nvSpPr>
        <p:spPr>
          <a:xfrm>
            <a:off x="5486400" y="2133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AutoShape 33"/>
          <p:cNvCxnSpPr>
            <a:stCxn id="264" idx="7"/>
            <a:endCxn id="276" idx="2"/>
          </p:cNvCxnSpPr>
          <p:nvPr/>
        </p:nvCxnSpPr>
        <p:spPr>
          <a:xfrm flipV="1">
            <a:off x="2728800" y="2704320"/>
            <a:ext cx="27583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9" name="AutoShape 34"/>
          <p:cNvCxnSpPr>
            <a:stCxn id="264" idx="6"/>
            <a:endCxn id="271" idx="2"/>
          </p:cNvCxnSpPr>
          <p:nvPr/>
        </p:nvCxnSpPr>
        <p:spPr>
          <a:xfrm>
            <a:off x="2895480" y="4190760"/>
            <a:ext cx="3658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90" name="AutoShape 35"/>
          <p:cNvCxnSpPr>
            <a:endCxn id="271" idx="1"/>
          </p:cNvCxnSpPr>
          <p:nvPr/>
        </p:nvCxnSpPr>
        <p:spPr>
          <a:xfrm>
            <a:off x="6324480" y="3238200"/>
            <a:ext cx="39600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91" name="Freeform 36"/>
          <p:cNvSpPr/>
          <p:nvPr/>
        </p:nvSpPr>
        <p:spPr>
          <a:xfrm flipH="1" rot="5400000">
            <a:off x="6438600" y="2476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5D22-A6A2-4D8A-82D6-36D360C18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4572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Latent variabl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for multitrait-multimethod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0876-61C5-4696-B313-5A56AA3CF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measurement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752480" y="941400"/>
            <a:ext cx="563904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943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20EE-91D0-4A5D-B56E-6FAEC9D66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latent variable path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Regress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ating Expectations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Trac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51E1-7BE8-49EC-9489-6C2F6C9EC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intercept, predicted value of Y when predictors (X) are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slope coefficient, predicted amount of change in Y for a 1-unit change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residual, part of Y not predicted by X, uncorrelated with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composed into variance explain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unexplained variance (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2286000" y="1492200"/>
          <a:ext cx="441972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92200"/>
                    <a:ext cx="44197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CF4F-5A38-4719-9168-BA73A88C7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ression and Structural Reg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between Theory an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requires researchers to be explicit about hypotheses (and assum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ible framework for articulation of theoretical conj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ramework for represen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s key ques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theory or data driving the structural model being te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not oversell contributions of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-called “causal models” in SEM provide no more “causal analysis” than other forms of data analysis – and maybe rather weaker, if data are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10B4-B4F2-4D0A-86BB-4D44CE771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33344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00068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38960" y="25909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6"/>
          <p:cNvCxnSpPr>
            <a:stCxn id="313" idx="3"/>
            <a:endCxn id="314" idx="1"/>
          </p:cNvCxnSpPr>
          <p:nvPr/>
        </p:nvCxnSpPr>
        <p:spPr>
          <a:xfrm>
            <a:off x="2476440" y="3161880"/>
            <a:ext cx="1524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AutoShape 7"/>
          <p:cNvCxnSpPr>
            <a:stCxn id="315" idx="2"/>
            <a:endCxn id="314" idx="3"/>
          </p:cNvCxnSpPr>
          <p:nvPr/>
        </p:nvCxnSpPr>
        <p:spPr>
          <a:xfrm flipH="1">
            <a:off x="5143320" y="31618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Freeform 8"/>
          <p:cNvSpPr/>
          <p:nvPr/>
        </p:nvSpPr>
        <p:spPr>
          <a:xfrm rot="5400000">
            <a:off x="7429320" y="2895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933640" y="251460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7962840" y="251460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04920" y="2225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 flipH="1" rot="16200000">
            <a:off x="722880" y="289584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9"/>
          <p:cNvGraphicFramePr/>
          <p:nvPr/>
        </p:nvGraphicFramePr>
        <p:xfrm>
          <a:off x="5040360" y="4827600"/>
          <a:ext cx="29876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4827600"/>
                    <a:ext cx="29876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20"/>
          <p:cNvSpPr/>
          <p:nvPr/>
        </p:nvSpPr>
        <p:spPr>
          <a:xfrm>
            <a:off x="5676840" y="2620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D0C5-DCFC-4C9D-9657-150B5C7E6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for Covar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6477120" y="175248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6"/>
          <p:cNvCxnSpPr>
            <a:stCxn id="329" idx="3"/>
            <a:endCxn id="330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AutoShape 7"/>
          <p:cNvCxnSpPr>
            <a:stCxn id="331" idx="2"/>
            <a:endCxn id="330" idx="3"/>
          </p:cNvCxnSpPr>
          <p:nvPr/>
        </p:nvCxnSpPr>
        <p:spPr>
          <a:xfrm flipH="1">
            <a:off x="5180760" y="232380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Freeform 8"/>
          <p:cNvSpPr/>
          <p:nvPr/>
        </p:nvSpPr>
        <p:spPr>
          <a:xfrm rot="5400000">
            <a:off x="746748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8001000" y="1676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AutoShape 13"/>
          <p:cNvCxnSpPr>
            <a:stCxn id="33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14"/>
          <p:cNvCxnSpPr>
            <a:stCxn id="338" idx="0"/>
            <a:endCxn id="329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Freeform 15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6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2895480" y="296712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19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20"/>
          <p:cNvSpPr/>
          <p:nvPr/>
        </p:nvSpPr>
        <p:spPr>
          <a:xfrm>
            <a:off x="5715000" y="178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D420-09EF-4340-9821-5C42FBD17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AutoShape 5"/>
          <p:cNvCxnSpPr>
            <a:stCxn id="351" idx="3"/>
            <a:endCxn id="352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Freeform 6"/>
          <p:cNvSpPr/>
          <p:nvPr/>
        </p:nvSpPr>
        <p:spPr>
          <a:xfrm rot="5400000">
            <a:off x="51051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56386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AutoShape 11"/>
          <p:cNvCxnSpPr>
            <a:stCxn id="35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12"/>
          <p:cNvCxnSpPr>
            <a:stCxn id="358" idx="0"/>
            <a:endCxn id="351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Freeform 13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4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2895480" y="293364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7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014E-B8FF-4C93-B4BC-EE75406CD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Shortened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structural model has a set of structur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/ covarianc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stimat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between structural expectations (with estimated parameters) and observed statistics (e.g., covariances, means) is model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based on a path diagram or computed algebra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EE58-860E-48C1-9B64-416524B34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3"/>
          <p:cNvSpPr/>
          <p:nvPr/>
        </p:nvSpPr>
        <p:spPr>
          <a:xfrm>
            <a:off x="54864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289548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289548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54864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7"/>
          <p:cNvCxnSpPr>
            <a:stCxn id="375" idx="6"/>
            <a:endCxn id="374" idx="2"/>
          </p:cNvCxnSpPr>
          <p:nvPr/>
        </p:nvCxnSpPr>
        <p:spPr>
          <a:xfrm>
            <a:off x="365760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AutoShape 8"/>
          <p:cNvCxnSpPr>
            <a:stCxn id="376" idx="6"/>
            <a:endCxn id="377" idx="2"/>
          </p:cNvCxnSpPr>
          <p:nvPr/>
        </p:nvCxnSpPr>
        <p:spPr>
          <a:xfrm>
            <a:off x="365760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9"/>
          <p:cNvCxnSpPr>
            <a:stCxn id="376" idx="2"/>
            <a:endCxn id="375" idx="2"/>
          </p:cNvCxnSpPr>
          <p:nvPr/>
        </p:nvCxnSpPr>
        <p:spPr>
          <a:xfrm flipH="1" rot="10800000">
            <a:off x="2894400" y="2361600"/>
            <a:ext cx="2520" cy="2743920"/>
          </a:xfrm>
          <a:prstGeom prst="curvedConnector5">
            <a:avLst>
              <a:gd name="adj1" fmla="val -40600000"/>
              <a:gd name="adj2" fmla="val 49993"/>
              <a:gd name="adj3" fmla="val -40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1" name="AutoShape 10"/>
          <p:cNvCxnSpPr>
            <a:stCxn id="377" idx="5"/>
            <a:endCxn id="377" idx="3"/>
          </p:cNvCxnSpPr>
          <p:nvPr/>
        </p:nvCxnSpPr>
        <p:spPr>
          <a:xfrm rot="5400000">
            <a:off x="586584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2" name="AutoShape 11"/>
          <p:cNvCxnSpPr>
            <a:stCxn id="374" idx="1"/>
            <a:endCxn id="374" idx="7"/>
          </p:cNvCxnSpPr>
          <p:nvPr/>
        </p:nvCxnSpPr>
        <p:spPr>
          <a:xfrm flipH="1" rot="16200000">
            <a:off x="586656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3" name="AutoShape 12"/>
          <p:cNvCxnSpPr>
            <a:stCxn id="375" idx="1"/>
            <a:endCxn id="375" idx="7"/>
          </p:cNvCxnSpPr>
          <p:nvPr/>
        </p:nvCxnSpPr>
        <p:spPr>
          <a:xfrm flipH="1" rot="16200000">
            <a:off x="327564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4" name="AutoShape 13"/>
          <p:cNvCxnSpPr>
            <a:stCxn id="376" idx="3"/>
            <a:endCxn id="376" idx="5"/>
          </p:cNvCxnSpPr>
          <p:nvPr/>
        </p:nvCxnSpPr>
        <p:spPr>
          <a:xfrm flipH="1" rot="16200000">
            <a:off x="327456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5" name="Text Box 14"/>
          <p:cNvSpPr/>
          <p:nvPr/>
        </p:nvSpPr>
        <p:spPr>
          <a:xfrm>
            <a:off x="594360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33526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594360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335268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434340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434340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2209680" y="3352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,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AutoShape 21"/>
          <p:cNvCxnSpPr>
            <a:stCxn id="376" idx="7"/>
            <a:endCxn id="374" idx="3"/>
          </p:cNvCxnSpPr>
          <p:nvPr/>
        </p:nvCxnSpPr>
        <p:spPr>
          <a:xfrm flipV="1">
            <a:off x="3546360" y="2631240"/>
            <a:ext cx="205200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Text Box 22"/>
          <p:cNvSpPr/>
          <p:nvPr/>
        </p:nvSpPr>
        <p:spPr>
          <a:xfrm>
            <a:off x="434340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557F-0A4E-41FF-9457-97F5D3EE5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3"/>
          <p:cNvGraphicFramePr/>
          <p:nvPr/>
        </p:nvGraphicFramePr>
        <p:xfrm>
          <a:off x="1774800" y="1711440"/>
          <a:ext cx="246852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1711440"/>
                    <a:ext cx="24685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4"/>
          <p:cNvGraphicFramePr/>
          <p:nvPr/>
        </p:nvGraphicFramePr>
        <p:xfrm>
          <a:off x="1784520" y="2352600"/>
          <a:ext cx="732780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4520" y="2352600"/>
                    <a:ext cx="73278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5"/>
          <p:cNvGraphicFramePr/>
          <p:nvPr/>
        </p:nvGraphicFramePr>
        <p:xfrm>
          <a:off x="1585800" y="4944960"/>
          <a:ext cx="467532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5800" y="4944960"/>
                    <a:ext cx="4675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1635120" y="5648400"/>
          <a:ext cx="5603760" cy="59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5120" y="5648400"/>
                    <a:ext cx="56037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7"/>
          <p:cNvGraphicFramePr/>
          <p:nvPr/>
        </p:nvGraphicFramePr>
        <p:xfrm>
          <a:off x="1600200" y="4367160"/>
          <a:ext cx="2819520" cy="61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4367160"/>
                    <a:ext cx="281952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Text Box 8"/>
          <p:cNvSpPr/>
          <p:nvPr/>
        </p:nvSpPr>
        <p:spPr>
          <a:xfrm>
            <a:off x="685800" y="11271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685800" y="364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CC46-2E85-45E6-8E2F-7910E055F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Oval 3"/>
          <p:cNvSpPr/>
          <p:nvPr/>
        </p:nvSpPr>
        <p:spPr>
          <a:xfrm>
            <a:off x="6477120" y="19810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38862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38862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6"/>
          <p:cNvSpPr/>
          <p:nvPr/>
        </p:nvSpPr>
        <p:spPr>
          <a:xfrm>
            <a:off x="6477120" y="47242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AutoShape 7"/>
          <p:cNvCxnSpPr>
            <a:stCxn id="413" idx="6"/>
            <a:endCxn id="412" idx="2"/>
          </p:cNvCxnSpPr>
          <p:nvPr/>
        </p:nvCxnSpPr>
        <p:spPr>
          <a:xfrm>
            <a:off x="464832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8"/>
          <p:cNvCxnSpPr>
            <a:stCxn id="414" idx="6"/>
            <a:endCxn id="415" idx="2"/>
          </p:cNvCxnSpPr>
          <p:nvPr/>
        </p:nvCxnSpPr>
        <p:spPr>
          <a:xfrm>
            <a:off x="464832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Text Box 9"/>
          <p:cNvSpPr/>
          <p:nvPr/>
        </p:nvSpPr>
        <p:spPr>
          <a:xfrm>
            <a:off x="533412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533412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 rot="16200000">
            <a:off x="1905120" y="3238560"/>
            <a:ext cx="914400" cy="8380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AutoShape 12"/>
          <p:cNvCxnSpPr>
            <a:stCxn id="420" idx="3"/>
            <a:endCxn id="413" idx="2"/>
          </p:cNvCxnSpPr>
          <p:nvPr/>
        </p:nvCxnSpPr>
        <p:spPr>
          <a:xfrm flipV="1">
            <a:off x="2781000" y="2361960"/>
            <a:ext cx="11055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13"/>
          <p:cNvCxnSpPr>
            <a:stCxn id="420" idx="3"/>
            <a:endCxn id="414" idx="1"/>
          </p:cNvCxnSpPr>
          <p:nvPr/>
        </p:nvCxnSpPr>
        <p:spPr>
          <a:xfrm>
            <a:off x="2781360" y="3657600"/>
            <a:ext cx="121680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Text Box 14"/>
          <p:cNvSpPr/>
          <p:nvPr/>
        </p:nvSpPr>
        <p:spPr>
          <a:xfrm>
            <a:off x="3352680" y="26668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3352680" y="3886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6"/>
          <p:cNvSpPr/>
          <p:nvPr/>
        </p:nvSpPr>
        <p:spPr>
          <a:xfrm flipH="1" rot="16200000">
            <a:off x="1713240" y="3466800"/>
            <a:ext cx="457200" cy="38124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AutoShape 17"/>
          <p:cNvCxnSpPr>
            <a:stCxn id="414" idx="7"/>
            <a:endCxn id="412" idx="3"/>
          </p:cNvCxnSpPr>
          <p:nvPr/>
        </p:nvCxnSpPr>
        <p:spPr>
          <a:xfrm flipV="1">
            <a:off x="4536720" y="2631240"/>
            <a:ext cx="205164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 Box 18"/>
          <p:cNvSpPr/>
          <p:nvPr/>
        </p:nvSpPr>
        <p:spPr>
          <a:xfrm>
            <a:off x="541008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6199-0840-4E5A-ADAD-FC55D56E3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3"/>
          <p:cNvGraphicFramePr/>
          <p:nvPr/>
        </p:nvGraphicFramePr>
        <p:xfrm>
          <a:off x="846000" y="1704960"/>
          <a:ext cx="348948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704960"/>
                    <a:ext cx="348948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4"/>
          <p:cNvGraphicFramePr/>
          <p:nvPr/>
        </p:nvGraphicFramePr>
        <p:xfrm>
          <a:off x="838080" y="3657600"/>
          <a:ext cx="750888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75088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4B70-6AD8-4DC1-83C9-C6D67EEF9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 Squares and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37160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403848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"/>
          <p:cNvSpPr/>
          <p:nvPr/>
        </p:nvSpPr>
        <p:spPr>
          <a:xfrm>
            <a:off x="6477120" y="5335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5"/>
          <p:cNvCxnSpPr>
            <a:stCxn id="438" idx="3"/>
            <a:endCxn id="439" idx="1"/>
          </p:cNvCxnSpPr>
          <p:nvPr/>
        </p:nvCxnSpPr>
        <p:spPr>
          <a:xfrm>
            <a:off x="2514240" y="110448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AutoShape 6"/>
          <p:cNvCxnSpPr>
            <a:stCxn id="440" idx="2"/>
            <a:endCxn id="439" idx="3"/>
          </p:cNvCxnSpPr>
          <p:nvPr/>
        </p:nvCxnSpPr>
        <p:spPr>
          <a:xfrm flipH="1">
            <a:off x="5180760" y="110448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Freeform 7"/>
          <p:cNvSpPr/>
          <p:nvPr/>
        </p:nvSpPr>
        <p:spPr>
          <a:xfrm rot="5400000">
            <a:off x="746748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971800" y="4572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"/>
          <p:cNvSpPr/>
          <p:nvPr/>
        </p:nvSpPr>
        <p:spPr>
          <a:xfrm>
            <a:off x="1371600" y="28195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AutoShape 12"/>
          <p:cNvCxnSpPr>
            <a:stCxn id="445" idx="5"/>
          </p:cNvCxnSpPr>
          <p:nvPr/>
        </p:nvCxnSpPr>
        <p:spPr>
          <a:xfrm flipV="1">
            <a:off x="2228400" y="1676160"/>
            <a:ext cx="1810440" cy="17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13"/>
          <p:cNvCxnSpPr>
            <a:stCxn id="445" idx="0"/>
            <a:endCxn id="438" idx="2"/>
          </p:cNvCxnSpPr>
          <p:nvPr/>
        </p:nvCxnSpPr>
        <p:spPr>
          <a:xfrm flipV="1">
            <a:off x="1942920" y="167580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Freeform 14"/>
          <p:cNvSpPr/>
          <p:nvPr/>
        </p:nvSpPr>
        <p:spPr>
          <a:xfrm flipH="1" rot="16200000">
            <a:off x="76176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5"/>
          <p:cNvSpPr/>
          <p:nvPr/>
        </p:nvSpPr>
        <p:spPr>
          <a:xfrm flipH="1" rot="10800000">
            <a:off x="1599120" y="396216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2895480" y="169236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1905120" y="19810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571500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19"/>
          <p:cNvGraphicFramePr/>
          <p:nvPr/>
        </p:nvGraphicFramePr>
        <p:xfrm>
          <a:off x="5127480" y="3376440"/>
          <a:ext cx="33084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7480" y="3376440"/>
                    <a:ext cx="33084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20"/>
          <p:cNvGraphicFramePr/>
          <p:nvPr/>
        </p:nvGraphicFramePr>
        <p:xfrm>
          <a:off x="5067360" y="4308480"/>
          <a:ext cx="19270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4308480"/>
                    <a:ext cx="1927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21"/>
          <p:cNvGraphicFramePr/>
          <p:nvPr/>
        </p:nvGraphicFramePr>
        <p:xfrm>
          <a:off x="5092560" y="2889360"/>
          <a:ext cx="162432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2560" y="2889360"/>
                    <a:ext cx="16243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22"/>
          <p:cNvSpPr/>
          <p:nvPr/>
        </p:nvSpPr>
        <p:spPr>
          <a:xfrm>
            <a:off x="4724280" y="2438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Vari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7242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Co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24"/>
          <p:cNvGraphicFramePr/>
          <p:nvPr/>
        </p:nvGraphicFramePr>
        <p:xfrm>
          <a:off x="4965840" y="5827680"/>
          <a:ext cx="233676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65840" y="5827680"/>
                    <a:ext cx="23367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25"/>
          <p:cNvGraphicFramePr/>
          <p:nvPr/>
        </p:nvGraphicFramePr>
        <p:xfrm>
          <a:off x="5029200" y="5326200"/>
          <a:ext cx="14479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4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326200"/>
                    <a:ext cx="14479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 Box 26"/>
          <p:cNvSpPr/>
          <p:nvPr/>
        </p:nvSpPr>
        <p:spPr>
          <a:xfrm>
            <a:off x="4724280" y="4913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214F-C6C6-4B3D-986A-53BAEAAEE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3"/>
          <p:cNvGraphicFramePr/>
          <p:nvPr/>
        </p:nvGraphicFramePr>
        <p:xfrm>
          <a:off x="363600" y="506520"/>
          <a:ext cx="50328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600" y="506520"/>
                    <a:ext cx="503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30"/>
          <p:cNvGraphicFramePr/>
          <p:nvPr/>
        </p:nvGraphicFramePr>
        <p:xfrm>
          <a:off x="8061480" y="428760"/>
          <a:ext cx="511200" cy="60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Object 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61480" y="428760"/>
                    <a:ext cx="5112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using symbolic matrix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involved for “Intro to S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s same expectations as do trac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helpful for very complex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s to what is going on “under the hood” as programs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CE3F-E44C-407A-BF12-A6F4FBCB3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rious Definition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statistical statement about relations among chose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pattern of (linear) relations among a set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statistical techniques that allow examination of sets of relations among one or more IVs (continuous or discrete) and one or more DVs (continuous or discr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613B-AB16-48E9-AB65-2FB440DBD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Progra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 Modeling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3719-C9F1-4CAC-A04D-C4BDF5ACA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general program, several distinct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EM program, commonly used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use, words with 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through 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v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good program, available through R (and fre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0869-32C5-4A0B-854C-DAAAE53AA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for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rly, used summary data (correlations, covariances,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now read “raw”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art with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ardless of data (raw data, covariance matrices), be sure to export data from commonly used stat package (SAS, SPSS, R, St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check your data after SEM program reads data to make sure everything m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7E92-9E09-42D3-B233-C663F2650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s in Statistical Analysis: SEER _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Specification – develop equations that match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 conj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stimation – obtain best-fit 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valuation – evaluate overall model fit, evaluate 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Readjustment – re-specify model to yield better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: Model Comparison – compare fit of alternative mod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ep added by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0592-3F95-4F85-93BB-B9729194A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ed model will not fit data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mis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AE09-3768-4E5A-8033-F9E1DA711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Statistical indicator of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-square value based on misfit to data, so higher chi-square is not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of freedom (df): Difference between number of sample statistics (covariances, plus means [if modeled]) and number of parameters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chi-square provides statistical basis for rejecting model in favor of an unspecified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ifferent alternative estimators (e.g., robu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eal with simple maximum likelihood (ML) chi-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2AC1-B548-45BC-8BA4-485950D2D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Absolute misfit (higher levels b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Mean Square Error of Approximation (RM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lt; .0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5 - .08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8 - .10: Poor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gt; .1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al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ower bound includes .05, cannot reject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root mean residual (SRMR) cor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 &lt; .06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ED7D-4418-4A6A-9AE9-032759212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Relative fit, or fit relative to null model, so higher levels are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cker-Lewis index (T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gt; .9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.90 - .95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lt; .9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do not use these as hard-and-fast cutoffs (!#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fit index (C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, same cutoffs as the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I seems less sensitive to model comparisons than does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Widaman &amp; Thompson (2003, Psychological Methods) 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9B85-EBEC-46BF-949E-F95704BCC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451D-32EA-47DE-B24F-4B7D5D918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767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occupation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 point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ACAA-A5DB-49A8-A82A-3ACA851A8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representation of theory (no default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s of complex multivariate theories involving latent entitie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and indirect effects can be teased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/ comparison of multipl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 variables can be both outcomes (DVs) and predictors (IVs) in the sam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data are easy to handle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2715-F201-451D-B0FB-DE6D3712D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ad_ed dad_occ grades ed_exp  asp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1.000  0.277   0.250  0.572  0.489  0.3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0.277  1.000   0.611  0.294  0.446  0.3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0.250  0.611   1.000  0.248  0.410  0.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0.572  0.294   0.248  1.000  0.597  0.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0.489  0.446   0.410  0.597  1.000  0.6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  0.335  0.303   0.331  0.478  0.651 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893C-0CE7-4986-B607-C0CDC3E27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97D2-E57A-4225-BE45-E749D5CE0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707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int + dad_occ +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9162-59E5-4CBA-8895-A975933BF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56    0.037    4.262    0.000    0.156    0.1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41    0.034   -1.209    0.22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-0.041   -0.0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79    0.029    2.711    0.007    0.079    0.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45    0.036   14.983    0.000    0.545    0.5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4861-3295-49AF-974D-31E880529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043E-E876-4858-907C-0EA4B3B27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drop 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dad_occ + ed_ex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5032-A809-48EE-9256-D216F96C4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8    0.033    4.134    0.000    0.138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77    0.029    2.628    0.009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77    0.0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37    0.036   15.040    0.000    0.537    0.5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DDB1-7B88-40A4-BD91-0109F10A8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D413-CA46-4438-A09A-36C7A227D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drop 2nd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 + 0*dad_occ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ed_e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233E-9AA3-46FA-BA27-F31673E9C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9    0.034    4.134    0.000    0.139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68    0.034   16.807    0.000    0.568    0.5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0258-5FA3-4930-AC4B-95ED1CEB5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is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(strong) substantive theory regarding relations amo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arge sample size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basic understanding of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 to temptation, “when the tail wags the do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to consider equivalent models weakens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o easily to statements regarding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A08F-6A30-4D64-AF9B-DF0A70007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527F-CA52-4DC1-9CBA-DC8BB033A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equate 2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grad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0*int + 0*dad_occ +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ed_ex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 using same "name" for coe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FD9A-7F03-4BE9-9862-F3821A24A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ED32-CC26-47A8-BE2D-319B8BAD3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0BCD-CEB9-49DF-91A4-1B18A92F1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1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92, .142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.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 is fine, but one non-significan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is probably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, given its greater parsimony, is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had much worse fit, so unacceptable on all 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let’s look at Model 2, with 4 sizeabl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 direct effect on 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 direct effect on his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s direct effect on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 direct effect on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0C19-0F74-4FF5-B6EB-C515290D3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1493-174B-4BB5-81E5-F25B732BF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1492200" y="1600200"/>
            <a:ext cx="6585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4388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al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oeconomic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emic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other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CDAF-203B-4693-8B39-137DB70F3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1.000 0.288 0.589 0.438 0.4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0.288 1.000 0.194 0.359 0.3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0.589 0.194 1.000 0.473 0.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0.438 0.359 0.473 1.000 0.6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d_aspir  0.418 0.380 0.459 0.611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D        29.17 11.08 27.05  1.71  0.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B1F4-E3C0-45FB-900A-771918815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C59D-CCAF-409E-AEC2-F6295E600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1143000" y="1725480"/>
            <a:ext cx="701028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little secret/assumption about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variables are measured without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is assumption is not met with these data: All variables in this model are measured with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ear what effect this might have on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happen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9E8F-37F8-4ECB-9E27-74BF60994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al Cas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linear model (t-tests, regression, multiple regression, ANOVA, ANCOV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atory fact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data analyt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autoregressive and cross-lagg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curv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8B73-28EB-403F-AC26-BC4B7BBB3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mv = 'ap 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ma + sesr +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ap +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ea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9976-82CC-4B2A-8BF5-014D51EFC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546    0.011   48.280    0.000    0.546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010    0.001   11.260    0.000    0.010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 0.038    0.002   18.848    0.000    0.038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20    0.001   20.745    0.000    0.020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08    0.000   16.699    0.000    0.008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            0.280    0.007   38.617    0.000    0.280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~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93.113    5.079   18.333    0.000   93.113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04CA-68C2-4484-9E44-3EF6D9EDB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5E0C-17D1-4E6A-9DEF-D137E26D5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esty is the bes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honest about what you are doing, which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(but more adaptable) mode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looks lik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B47E-6F05-41F2-839D-F09F2276B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” hypothesized model: 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12F6-5E75-46A6-8A6D-057976E0B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98480" y="1523880"/>
            <a:ext cx="653112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0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0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0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0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0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6DFB-415F-44A0-A972-377E96E63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mentabil + ses +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acadperf +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FD11-528D-4649-9E5F-B6C1E6945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46    0.011   48.280    0.000    0.589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010    0.001   11.260    0.000    0.179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38    0.002   18.848    0.000    0.246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20    0.001   20.745    0.000    0.321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08    0.000   16.699    0.000    0.219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280    0.007   38.617    0.000    0.507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113    5.079   18.333    0.000    0.288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15E8-AC2A-423A-9334-90CC620AC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382B-F703-471B-BF46-D285B1821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with expanded representation, for Model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 specification, correct for un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“residual” variance of MVs to unreliable 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liabi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de: KR20 and KR21 reliability coefficients wer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ulas in Kuder &amp; Richardson (19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W1 estimate of reliability = first thing that popped into Keith Widaman’s head when he read about M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H2 estimate of reliability = second thoughts on reliability by Jonathan Helm, a former grad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E339-E374-4E74-9F1D-E51FCCE30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Object 2"/>
          <p:cNvGraphicFramePr/>
          <p:nvPr/>
        </p:nvGraphicFramePr>
        <p:xfrm>
          <a:off x="1676520" y="2514600"/>
          <a:ext cx="43462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4346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 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C7CC-136E-4D60-B258-327D18C6F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0" y="1066680"/>
            <a:ext cx="4419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Co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at RAM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lava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use let’s perform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W1   JH2    Unrel. var = (1 - rxx) * variance of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850.597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1.03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    for sesr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122.944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8.4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.9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ap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731.703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9.5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.7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so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2.924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1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0.887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.3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use above calculations in model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C4CD-BFE8-495E-924F-6B031157F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.3195*e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68FA-E5D6-4755-91B8-789E30F7F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start(0.001)*mentabil + start(0.046)*ses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start(-.002)*acadperf +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53CF-0924-421C-910B-0B1F30AAD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11B4-8871-4437-AD4D-F49F70631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82    0.012   48.247    0.000    0.727    0.7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0    0.001   -0.36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0.715   -0.010   -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46    0.002   20.915    0.000    0.354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38    0.002   20.607    0.000    0.647    0.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2    0.001   -1.713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87   -0.063   -0.0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577    0.022   26.241    0.000    1.025    1.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356    5.075   18.394    0.000    0.323    0.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E1FF-AA31-4348-A7B0-F4E10C445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data s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, 2, and 3 are “the same model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equal number of path coefficients, hence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 and 2 lea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fit: mixed, generally unaccep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parameter estimates, and SEs: all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has alter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: now acceptable on all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estimates and 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wo estimates are non-signific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Model 4, dropping two path 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48E9-7D65-415E-97D8-30ABA25AF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0.3195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916E-5C1A-4978-B92E-AAF02BCD6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igother ~ start(0.046)*ses + 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edaspire ~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9BEF-898E-4245-816B-6CC7CB283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51F8-EA2A-422B-A8BC-8F74D7CCD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2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and 2 generally un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sure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mmed Model 4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simoni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path coefficien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ability to academic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 and academic performance to significant others’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other’s influence to educational aspi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81A0-814C-42E7-971A-ED3485B26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SEM concerns relations among variables, emphasis often centers on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can be added to models, needed for som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ritten at level of observations (!), so can be fit to raw scores for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 attempts to explain associations present in data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simo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 between observed data and hypothesized model is referred to as Model Fit (e.g., fit statis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used most profitably when comparing fit of alternativ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1743-0CCF-4BC7-958C-4D206AC20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raw score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CAA8-9603-40BC-BB14-C2FA8DE13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3" descr=""/>
          <p:cNvPicPr/>
          <p:nvPr/>
        </p:nvPicPr>
        <p:blipFill>
          <a:blip r:embed="rId1"/>
          <a:stretch/>
        </p:blipFill>
        <p:spPr>
          <a:xfrm>
            <a:off x="1447920" y="1843200"/>
            <a:ext cx="586728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D48B-61E0-4503-B8F6-F47564879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3" descr=""/>
          <p:cNvPicPr/>
          <p:nvPr/>
        </p:nvPicPr>
        <p:blipFill>
          <a:blip r:embed="rId1"/>
          <a:stretch/>
        </p:blipFill>
        <p:spPr>
          <a:xfrm>
            <a:off x="1447920" y="1835280"/>
            <a:ext cx="58672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301 junior high schoo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: 9 ability variables (selected from 26),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ability (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perception, cubes, loz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al comprehension (V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graph comprehension, sentence comprehension, word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ual speed (P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, counting dots, straight-and-curved capital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F3E9-92A3-470D-BABD-F57435F59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we might 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ingle factor adequate to represent covariances among the 9 manifest vari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well enough or does it need modif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identify a general factor from thes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a figural portrayal of the model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FA6A-613F-4342-BA4A-2A6841E34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19EE-F7AD-4A71-AA62-8D2C92B41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1676520" y="2728800"/>
            <a:ext cx="647676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6104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C227-3777-4A0C-A7C6-C2A4524A2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952560" y="1731960"/>
            <a:ext cx="7238880" cy="46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1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1 = cfa(hs.model1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1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1 = modificationIndices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1, mi &gt;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6D19-179C-4A68-87FE-0ED91D24B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007D-3730-457D-A0DF-471C8E97F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98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69    0.066    5.554    0.000    1.992    0.4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0.972    0.145    6.685    0.000    5.249    0.5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9    0.8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4    0.087   17.014    0.000    4.406    0.8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1    0.129   16.703    0.000    6.416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4.248    0.5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26    0.143    7.152    0.000   14.619    0.7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693    0.237    7.155    0.000   24.119    0.6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348    1.323    5.552    0.000    0.459    0.4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36.187    7.766    4.660    0.000    0.471    0.4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11.971    3.403    3.518    0.000    0.283    0.2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4223-9AAC-4D5B-93CE-1A1B269A4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 mi      epc 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8  spatial =~ addition 18.631   -1.617   -8.729   -0.349   -0.3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  sccaps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6.41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.462   18.688    0.515    0.5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6 addition ~~ countdot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4.14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246.764  246.764    0.488    0.4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8 countdot ~~   sccaps 14.946 -304.628 -304.628   -0.415   -0.4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C0D6-BB09-491C-BD2F-DF99A6A14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Widaman</dc:creator>
  <dc:description/>
  <dc:language>en-US</dc:language>
  <cp:lastModifiedBy>GRAD QUANT</cp:lastModifiedBy>
  <dcterms:modified xsi:type="dcterms:W3CDTF">2016-05-11T19:18:29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